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FB69-F9CF-46B3-9415-C7C8EBBD8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02C8-94DA-4DF3-9258-16D70A94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8B4F-AAFE-4510-AC4E-83044F302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ACE4-3E2D-4958-894C-15013B3AF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A5F7-4DA2-40E9-BC31-03D4CAC6A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305D-7516-4A41-B78D-4BF7FFE1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CE30-9E7F-4441-B147-09407CAC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623A-69C6-4363-9164-246A89CC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443F-4F5C-4C14-8ACB-3F3E0324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55CE-4D8B-4358-BF7B-6909A121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6D7F-6736-4B7A-A705-1B1AD503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EDF2-3655-42D9-B26E-58957958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52C1-4945-4467-A403-38FB7E21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62D8-532F-4AF3-BB4E-1606FACF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47ED-8A2F-4CCB-94C7-4017E7C4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D762-58EA-4FE9-9920-5D34BAABA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68A3-5390-4A06-B7F6-9C28B7FAD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FCED-832E-496F-AF8F-1CB73373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CE10-6723-46BF-A32F-D1DB3432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5A76-3470-4128-BDBE-DEB6B612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4608-E3D4-4025-8A23-68A54BB9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2D64-8259-4F44-BE8E-19DD4B36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32EC-04C5-4945-A589-778D3E72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ACF5-A0DF-43A9-ADAA-28783E9A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600"/>
            <a:ext cx="2869560" cy="3275640"/>
            <a:chOff x="6274080" y="-21600"/>
            <a:chExt cx="286956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600"/>
              <a:ext cx="2869560" cy="2269080"/>
              <a:chOff x="6274080" y="-21600"/>
              <a:chExt cx="286956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600"/>
                <a:ext cx="2866680" cy="2269080"/>
                <a:chOff x="6274080" y="-21600"/>
                <a:chExt cx="286668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320" y="842760"/>
                  <a:ext cx="1063800" cy="1140840"/>
                  <a:chOff x="7834320" y="842760"/>
                  <a:chExt cx="106380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524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720" y="1602720"/>
                    <a:ext cx="4723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840" y="695520"/>
                  <a:ext cx="1303920" cy="669240"/>
                  <a:chOff x="7836840" y="695520"/>
                  <a:chExt cx="130392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040"/>
                    <a:ext cx="86148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4040" y="1035720"/>
                    <a:ext cx="456840" cy="26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6040" y="798120"/>
                    <a:ext cx="42516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4120"/>
                    <a:ext cx="7203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760"/>
                  <a:ext cx="983880" cy="326880"/>
                  <a:chOff x="7845840" y="419760"/>
                  <a:chExt cx="98388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360"/>
                    <a:ext cx="6357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480"/>
                    <a:ext cx="3398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760" y="905400"/>
                  <a:ext cx="1060200" cy="1142280"/>
                  <a:chOff x="6539760" y="905400"/>
                  <a:chExt cx="1060200" cy="114228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3200" y="1193760"/>
                    <a:ext cx="8798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840" y="1665720"/>
                    <a:ext cx="47160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4120"/>
                    <a:ext cx="720360" cy="10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5120" cy="808920"/>
                  <a:chOff x="7287480" y="-21600"/>
                  <a:chExt cx="465120" cy="80892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840" y="460440"/>
                    <a:ext cx="5410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800" y="60480"/>
                    <a:ext cx="29556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0800"/>
                  <a:ext cx="496800" cy="790560"/>
                  <a:chOff x="7666200" y="-10800"/>
                  <a:chExt cx="49680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6560"/>
                    <a:ext cx="5425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5800" y="79560"/>
                    <a:ext cx="2937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30240"/>
                  <a:ext cx="914400" cy="1248480"/>
                  <a:chOff x="6710760" y="930240"/>
                  <a:chExt cx="91440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5120" y="1258560"/>
                    <a:ext cx="8906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6680"/>
                    <a:ext cx="4762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7400" cy="1248120"/>
                  <a:chOff x="7015320" y="979200"/>
                  <a:chExt cx="61740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8680" y="1310400"/>
                    <a:ext cx="8244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880" y="1852200"/>
                    <a:ext cx="4366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520" cy="1155600"/>
                  <a:chOff x="7733520" y="1058760"/>
                  <a:chExt cx="29052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4320" y="1376640"/>
                    <a:ext cx="75204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480" y="1899000"/>
                    <a:ext cx="40788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0600" y="1403280"/>
                    <a:ext cx="74124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7640" y="1928160"/>
                    <a:ext cx="39708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3EBD-3B40-4924-B4E2-1349E8D41D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1840"/>
            <a:chOff x="2010960" y="245520"/>
            <a:chExt cx="6896160" cy="545184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360"/>
              <a:ext cx="945720" cy="709920"/>
              <a:chOff x="3484080" y="954360"/>
              <a:chExt cx="945720" cy="70992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36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612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1840"/>
              <a:chOff x="2010960" y="245520"/>
              <a:chExt cx="6896160" cy="545184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4320"/>
                  <a:ext cx="3599280" cy="2650680"/>
                  <a:chOff x="3735720" y="1264320"/>
                  <a:chExt cx="3599280" cy="265068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4320"/>
                    <a:ext cx="3599280" cy="2650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5600"/>
                    <a:ext cx="712440" cy="497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0360" y="2320920"/>
                    <a:ext cx="2559960" cy="2740680"/>
                    <a:chOff x="5760360" y="2320920"/>
                    <a:chExt cx="2559960" cy="274068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2880" y="3018960"/>
                      <a:ext cx="212868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3760" y="4141800"/>
                      <a:ext cx="1140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360" y="2144160"/>
                    <a:ext cx="3040200" cy="2530800"/>
                    <a:chOff x="5787360" y="2144160"/>
                    <a:chExt cx="3040200" cy="253080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47160"/>
                      <a:ext cx="2235600" cy="42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360" y="3718800"/>
                      <a:ext cx="12009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61000"/>
                    <a:ext cx="3098160" cy="1994400"/>
                    <a:chOff x="5774760" y="2061000"/>
                    <a:chExt cx="3098160" cy="19944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320" y="2516760"/>
                      <a:ext cx="2140560" cy="37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880" y="3243240"/>
                      <a:ext cx="114912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920" y="1967040"/>
                    <a:ext cx="3134160" cy="1608840"/>
                    <a:chOff x="5767920" y="1967040"/>
                    <a:chExt cx="3134160" cy="160884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6280"/>
                      <a:ext cx="206748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1280"/>
                      <a:ext cx="1110600" cy="64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5720" y="1874880"/>
                    <a:ext cx="2939400" cy="1004400"/>
                    <a:chOff x="5805720" y="1874880"/>
                    <a:chExt cx="2939400" cy="100440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2640" y="2000880"/>
                      <a:ext cx="1903680" cy="38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000" y="2208600"/>
                      <a:ext cx="1023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4400"/>
                    <a:ext cx="2658600" cy="442800"/>
                    <a:chOff x="5851440" y="1814400"/>
                    <a:chExt cx="2658600" cy="44280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0040"/>
                      <a:ext cx="1730880" cy="27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120" y="1825920"/>
                      <a:ext cx="929520" cy="41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2480"/>
                    <a:ext cx="2364120" cy="784080"/>
                    <a:chOff x="5788440" y="1302480"/>
                    <a:chExt cx="2364120" cy="78408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4880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1040"/>
                      <a:ext cx="81648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1040"/>
                    <a:ext cx="2557080" cy="2742480"/>
                    <a:chOff x="2646360" y="2471040"/>
                    <a:chExt cx="2557080" cy="274248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2240" y="3169080"/>
                      <a:ext cx="21283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720" y="4293000"/>
                      <a:ext cx="11422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400" y="2364480"/>
                    <a:ext cx="3039840" cy="2532600"/>
                    <a:chOff x="2084400" y="2364480"/>
                    <a:chExt cx="3039840" cy="253260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67120"/>
                      <a:ext cx="223416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000" y="3939480"/>
                      <a:ext cx="1199880" cy="67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120" y="2279160"/>
                    <a:ext cx="3097080" cy="1992240"/>
                    <a:chOff x="2040120" y="2279160"/>
                    <a:chExt cx="309708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492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320" y="345960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5560"/>
                    <a:ext cx="3134520" cy="1609200"/>
                    <a:chOff x="2010960" y="2185560"/>
                    <a:chExt cx="3134520" cy="160920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4800"/>
                      <a:ext cx="206784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8908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183"/>
                  <p:cNvGrpSpPr/>
                  <p:nvPr/>
                </p:nvGrpSpPr>
                <p:grpSpPr>
                  <a:xfrm>
                    <a:off x="2167560" y="2094840"/>
                    <a:ext cx="2937240" cy="1002600"/>
                    <a:chOff x="2167560" y="2094840"/>
                    <a:chExt cx="293724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840" y="2220840"/>
                      <a:ext cx="190368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840" y="2428920"/>
                      <a:ext cx="1023120" cy="60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27880"/>
                    <a:ext cx="2658600" cy="448920"/>
                    <a:chOff x="2403720" y="2027880"/>
                    <a:chExt cx="2658600" cy="4489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35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39040"/>
                      <a:ext cx="929520" cy="42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18480"/>
                    <a:ext cx="2363760" cy="788760"/>
                    <a:chOff x="2760840" y="1518480"/>
                    <a:chExt cx="2363760" cy="78876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69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07040"/>
                      <a:ext cx="816120" cy="42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560" y="1235520"/>
                    <a:ext cx="2323440" cy="1081800"/>
                    <a:chOff x="2887560" y="1235520"/>
                    <a:chExt cx="2323440" cy="108180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48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720" y="1369440"/>
                      <a:ext cx="81612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26560"/>
                    <a:ext cx="2170800" cy="1507320"/>
                    <a:chOff x="3160440" y="826560"/>
                    <a:chExt cx="2170800" cy="150732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678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6520" y="1018080"/>
                      <a:ext cx="8161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4160"/>
                    <a:ext cx="1987560" cy="1829880"/>
                    <a:chOff x="3437280" y="434160"/>
                    <a:chExt cx="1987560" cy="182988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320" y="1496520"/>
                      <a:ext cx="154260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420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25440"/>
                    <a:ext cx="1462680" cy="1893240"/>
                    <a:chOff x="4026960" y="325440"/>
                    <a:chExt cx="1462680" cy="189324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7280" y="1440360"/>
                      <a:ext cx="1358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36040"/>
                      <a:ext cx="72828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7800" y="245520"/>
                    <a:ext cx="1123920" cy="1947240"/>
                    <a:chOff x="4447800" y="245520"/>
                    <a:chExt cx="1123920" cy="194724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520" y="1402200"/>
                      <a:ext cx="130788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200" y="440280"/>
                      <a:ext cx="70344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360" y="947160"/>
                    <a:ext cx="2319840" cy="1113840"/>
                    <a:chOff x="5661360" y="947160"/>
                    <a:chExt cx="2319840" cy="11138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240" y="1518840"/>
                      <a:ext cx="151992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85040"/>
                      <a:ext cx="817560" cy="42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19920"/>
                    <a:ext cx="2201400" cy="1452600"/>
                    <a:chOff x="5529600" y="619920"/>
                    <a:chExt cx="2201400" cy="14526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4160"/>
                      <a:ext cx="151992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4600"/>
                      <a:ext cx="81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040" y="1461600"/>
                    <a:ext cx="12661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5920" y="533520"/>
                    <a:ext cx="68004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8240" y="268200"/>
                    <a:ext cx="1191600" cy="1898280"/>
                    <a:chOff x="5358240" y="268200"/>
                    <a:chExt cx="1191600" cy="189828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9320" y="1414080"/>
                      <a:ext cx="1308960" cy="22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5280" y="484560"/>
                      <a:ext cx="70344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51040" y="382320"/>
                    <a:ext cx="1888920" cy="1796400"/>
                    <a:chOff x="5351040" y="382320"/>
                    <a:chExt cx="1888920" cy="179640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50960" y="1381680"/>
                      <a:ext cx="142560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680" y="578880"/>
                      <a:ext cx="766800" cy="52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040" y="290160"/>
                    <a:ext cx="425520" cy="1794960"/>
                    <a:chOff x="5459040" y="290160"/>
                    <a:chExt cx="425520" cy="179496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7240" y="1442160"/>
                      <a:ext cx="117720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1760" y="530640"/>
                      <a:ext cx="63036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6840"/>
                    <a:ext cx="2194200" cy="3005640"/>
                    <a:chOff x="3063240" y="2526840"/>
                    <a:chExt cx="2194200" cy="300564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6760" y="3312720"/>
                      <a:ext cx="21301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0360"/>
                      <a:ext cx="1140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0440" y="2646720"/>
                    <a:ext cx="1481760" cy="3003480"/>
                    <a:chOff x="3790440" y="2646720"/>
                    <a:chExt cx="1481760" cy="30034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6440" y="3438360"/>
                      <a:ext cx="1968120" cy="38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1840" y="4745160"/>
                      <a:ext cx="105624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200" y="2695680"/>
                    <a:ext cx="876600" cy="2931840"/>
                    <a:chOff x="4507200" y="2695680"/>
                    <a:chExt cx="876600" cy="293184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4560" y="3483360"/>
                      <a:ext cx="189108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5000" y="4805640"/>
                      <a:ext cx="1012680" cy="54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200" y="2480400"/>
                    <a:ext cx="2280960" cy="2954520"/>
                    <a:chOff x="5677200" y="2480400"/>
                    <a:chExt cx="2280960" cy="295452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4400" y="3248280"/>
                      <a:ext cx="212796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6400"/>
                      <a:ext cx="113976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6960" y="2591640"/>
                    <a:ext cx="1756800" cy="3031200"/>
                    <a:chOff x="5646960" y="2591640"/>
                    <a:chExt cx="1756800" cy="303120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3920" y="3394080"/>
                      <a:ext cx="2035080" cy="36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840" y="4718880"/>
                      <a:ext cx="1089720" cy="57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06840"/>
                    <a:ext cx="1229040" cy="2990520"/>
                    <a:chOff x="5576040" y="2706840"/>
                    <a:chExt cx="1229040" cy="29905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480" y="353916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9880" y="4880520"/>
                      <a:ext cx="106128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6800"/>
                    <a:ext cx="696600" cy="2783520"/>
                    <a:chOff x="5521320" y="2836800"/>
                    <a:chExt cx="696600" cy="278352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432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480" y="4866120"/>
                      <a:ext cx="97488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3680" y="2883240"/>
                    <a:ext cx="664920" cy="2717280"/>
                    <a:chOff x="4963680" y="2883240"/>
                    <a:chExt cx="664920" cy="271728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4560" y="3661560"/>
                      <a:ext cx="1774080" cy="23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8520" y="4926600"/>
                      <a:ext cx="950400" cy="36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77880"/>
                <a:ext cx="6732720" cy="4526280"/>
                <a:chOff x="2174400" y="677880"/>
                <a:chExt cx="6732720" cy="452628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77880"/>
                  <a:ext cx="6732720" cy="4526280"/>
                  <a:chOff x="2174400" y="677880"/>
                  <a:chExt cx="6732720" cy="452628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1400"/>
                    <a:ext cx="3166560" cy="2529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8720"/>
                    <a:ext cx="2486880" cy="2935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47800"/>
                    <a:ext cx="1758240" cy="29390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3840"/>
                    <a:ext cx="3133440" cy="29386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77880"/>
                    <a:ext cx="2282760" cy="2844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2720"/>
                    <a:ext cx="940680" cy="2844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29800"/>
                    <a:ext cx="515160" cy="18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560" y="2179440"/>
                  <a:ext cx="546120" cy="103284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30080"/>
              <a:ext cx="6411960" cy="4710960"/>
              <a:chOff x="2343960" y="730080"/>
              <a:chExt cx="6411960" cy="47109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53680"/>
                <a:ext cx="598320" cy="182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98120"/>
                <a:ext cx="2617200" cy="2842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40200"/>
                <a:ext cx="1534320" cy="29358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56800"/>
                <a:ext cx="2930760" cy="29358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69000"/>
                <a:ext cx="469800" cy="29358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54960"/>
                <a:ext cx="1238040" cy="29358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65800"/>
                <a:ext cx="598320" cy="182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7200" y="2964960"/>
                <a:ext cx="543600" cy="1034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403080"/>
                <a:ext cx="1338480" cy="1880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16240"/>
                <a:ext cx="858240" cy="1880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26600"/>
                <a:ext cx="124200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27960"/>
                <a:ext cx="1872360" cy="1316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30080"/>
                <a:ext cx="819000" cy="1769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72600"/>
                <a:ext cx="542880" cy="1032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3B40-86A6-4064-87CA-AE83CF14A7A2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resident Obama’s Cabine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partment of Commer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upervises trade, promotes U.S. business, and tourism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cting Secretary of Commerce Rebecca Blank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6" name="Picture 5" descr=""/>
          <p:cNvPicPr/>
          <p:nvPr/>
        </p:nvPicPr>
        <p:blipFill>
          <a:blip r:embed="rId1"/>
          <a:stretch/>
        </p:blipFill>
        <p:spPr>
          <a:xfrm>
            <a:off x="3352680" y="4114800"/>
            <a:ext cx="198144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partment of Lab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eals with working conditions, and wages of U.S. worker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retary of Labor Hilda Soli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9" name="Picture 5" descr="solis-sec"/>
          <p:cNvPicPr/>
          <p:nvPr/>
        </p:nvPicPr>
        <p:blipFill>
          <a:blip r:embed="rId1"/>
          <a:stretch/>
        </p:blipFill>
        <p:spPr>
          <a:xfrm>
            <a:off x="3352680" y="3733920"/>
            <a:ext cx="11908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partment of Health and Human Servic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orks for the well-being and health of all American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retary of Health and Human Services Kathleen Sebeliu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2" name="Picture 5" descr="sebeliusofficialphoto"/>
          <p:cNvPicPr/>
          <p:nvPr/>
        </p:nvPicPr>
        <p:blipFill>
          <a:blip r:embed="rId1"/>
          <a:stretch/>
        </p:blipFill>
        <p:spPr>
          <a:xfrm>
            <a:off x="2819520" y="4191120"/>
            <a:ext cx="28954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partment of Housing and Urban Develop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eals with the special needs and problems of citi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retary of Housing and Urban Development Shaun Donova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5" name="Picture 5" descr="donovan022709"/>
          <p:cNvPicPr/>
          <p:nvPr/>
        </p:nvPicPr>
        <p:blipFill>
          <a:blip r:embed="rId1"/>
          <a:stretch/>
        </p:blipFill>
        <p:spPr>
          <a:xfrm>
            <a:off x="3733920" y="4114800"/>
            <a:ext cx="13716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partment of Transport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anages nation’s highways, railroads, airlines, and sea traffic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retary of Transportation Ray LaHoo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8" name="Picture 5" descr="lahood"/>
          <p:cNvPicPr/>
          <p:nvPr/>
        </p:nvPicPr>
        <p:blipFill>
          <a:blip r:embed="rId1"/>
          <a:stretch/>
        </p:blipFill>
        <p:spPr>
          <a:xfrm>
            <a:off x="3352680" y="4267080"/>
            <a:ext cx="170208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partment of Energ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irects the overall energy plan for the natio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retary of Energy Steven Chu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1" name="Picture 5" descr="SecretaryChu_tn"/>
          <p:cNvPicPr/>
          <p:nvPr/>
        </p:nvPicPr>
        <p:blipFill>
          <a:blip r:embed="rId1"/>
          <a:stretch/>
        </p:blipFill>
        <p:spPr>
          <a:xfrm>
            <a:off x="3581280" y="3657600"/>
            <a:ext cx="165744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partment of Educ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rovides advice and funding for school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retary of Education Arne Dunca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4" name="Picture 5" descr="duncan-100"/>
          <p:cNvPicPr/>
          <p:nvPr/>
        </p:nvPicPr>
        <p:blipFill>
          <a:blip r:embed="rId1"/>
          <a:stretch/>
        </p:blipFill>
        <p:spPr>
          <a:xfrm>
            <a:off x="3581280" y="4038480"/>
            <a:ext cx="19051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partment of Veterans Affai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irects services for veterans of the armed forc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retary of Veterans Affairs Eric Shinsek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7" name="Picture 5" descr="Shinseki-web"/>
          <p:cNvPicPr/>
          <p:nvPr/>
        </p:nvPicPr>
        <p:blipFill>
          <a:blip r:embed="rId1"/>
          <a:stretch/>
        </p:blipFill>
        <p:spPr>
          <a:xfrm>
            <a:off x="3276720" y="3581280"/>
            <a:ext cx="2286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partment of Homeland Securit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versees America’s defenses against terrorist attack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retary of Homeland Security Janet Napolitan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0" name="Picture 5" descr="janet-napolitano-sm"/>
          <p:cNvPicPr/>
          <p:nvPr/>
        </p:nvPicPr>
        <p:blipFill>
          <a:blip r:embed="rId1"/>
          <a:stretch/>
        </p:blipFill>
        <p:spPr>
          <a:xfrm>
            <a:off x="3505320" y="4038480"/>
            <a:ext cx="19047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Each department is responsible for a certain area of government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The head of the department, or Secretary, is a member of the cabinet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Cabinet members advise the President and run the departments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esident Obama, Vice-President Biden, Cabinet Secretaries, and members of the Executive Office of the President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5" name="Content Placeholder 3" descr="cabinetRS.jpg"/>
          <p:cNvPicPr/>
          <p:nvPr/>
        </p:nvPicPr>
        <p:blipFill>
          <a:blip r:embed="rId1"/>
          <a:stretch/>
        </p:blipFill>
        <p:spPr>
          <a:xfrm>
            <a:off x="2209680" y="2209680"/>
            <a:ext cx="4876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Department of Stat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department plans and carries out the nation’s foreign polic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retary of State Hillary Clint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8" name="Picture 3" descr="Clinton8x10_150_1.jpg"/>
          <p:cNvPicPr/>
          <p:nvPr/>
        </p:nvPicPr>
        <p:blipFill>
          <a:blip r:embed="rId1"/>
          <a:stretch/>
        </p:blipFill>
        <p:spPr>
          <a:xfrm>
            <a:off x="3352680" y="3733920"/>
            <a:ext cx="1428840" cy="188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Department of the Treasur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llects, borrows, spends, and prints money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retary of the Treasury Timothy Geithn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1" name="Picture 6" descr="photo-geithner"/>
          <p:cNvPicPr/>
          <p:nvPr/>
        </p:nvPicPr>
        <p:blipFill>
          <a:blip r:embed="rId1"/>
          <a:stretch/>
        </p:blipFill>
        <p:spPr>
          <a:xfrm>
            <a:off x="2895480" y="3809880"/>
            <a:ext cx="25146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Department of Defens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anages the armed forc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retary of Defense Leon Panett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4" name="Picture 5" descr=""/>
          <p:cNvPicPr/>
          <p:nvPr/>
        </p:nvPicPr>
        <p:blipFill>
          <a:blip r:embed="rId1"/>
          <a:stretch/>
        </p:blipFill>
        <p:spPr>
          <a:xfrm>
            <a:off x="3429000" y="3962520"/>
            <a:ext cx="2209680" cy="274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Department of Justi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sponsible for all aspects of federal law enforcement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ttorney General Eric Hold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7" name="Picture 5" descr="oag2"/>
          <p:cNvPicPr/>
          <p:nvPr/>
        </p:nvPicPr>
        <p:blipFill>
          <a:blip r:embed="rId1"/>
          <a:stretch/>
        </p:blipFill>
        <p:spPr>
          <a:xfrm>
            <a:off x="3352680" y="3657600"/>
            <a:ext cx="16509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partment of the Interi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anages and protects the nation’s public lands and natural resourc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retary of the Interior Ken Salaza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0" name="Picture 5" descr="Salazar_Portrait"/>
          <p:cNvPicPr/>
          <p:nvPr/>
        </p:nvPicPr>
        <p:blipFill>
          <a:blip r:embed="rId1"/>
          <a:stretch/>
        </p:blipFill>
        <p:spPr>
          <a:xfrm>
            <a:off x="3352680" y="4191120"/>
            <a:ext cx="1905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partment of Agricultur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ssists farmers and consumers of farm product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retary of Agriculture Tom Vilsack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3" name="Picture 5" descr="officialportraitweb"/>
          <p:cNvPicPr/>
          <p:nvPr/>
        </p:nvPicPr>
        <p:blipFill>
          <a:blip r:embed="rId1"/>
          <a:stretch/>
        </p:blipFill>
        <p:spPr>
          <a:xfrm>
            <a:off x="3505320" y="3962520"/>
            <a:ext cx="19810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16:56:09Z</dcterms:created>
  <dc:creator>shroberts</dc:creator>
  <dc:description/>
  <dc:language>en-US</dc:language>
  <cp:lastModifiedBy>SysAdmin</cp:lastModifiedBy>
  <dcterms:modified xsi:type="dcterms:W3CDTF">2011-09-29T16:38:16Z</dcterms:modified>
  <cp:revision>44</cp:revision>
  <dc:subject/>
  <dc:title>The Executive Departments</dc:title>
</cp:coreProperties>
</file>